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A8A-0EC5-42F6-A088-414F992E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04B-9EB2-47BB-B682-D65666F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61F-0579-4649-9F43-5C58E1D1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953-2957-42C1-B414-051D046F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8F59-1EDC-4E07-86C2-47E7C1D8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21AF-B580-42B8-AF83-CF267CE1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BDB3-6DAF-4245-B1CC-01F9A118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2710-E1BD-4ECB-90BB-048F3F05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BEC1-7B90-4EFA-8C77-2F267D74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181D-DB2C-45D9-BD71-E59FACC4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DDE-D1CE-4EFF-ACC1-68D63BC0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97C-765E-4C92-BFC8-62E122EF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983D-02D5-4B5C-A673-FF85040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5BB6-A083-42C5-B992-89782CD5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F28A-19FC-48CE-B61C-50D8AB22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664C-1B90-4B62-AA34-275D3CC8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0EBD-0AA5-489A-8BA5-049A0DD7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873-8051-4083-B86F-B5BC6F97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6AC-0833-408A-B86B-72350912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A2A-7B11-4DC9-BB80-DBEEFDC2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3AD-6904-4F54-9D32-F46E916E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4C1-E766-465F-B7AF-AEB95541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46B-1415-4347-A44F-40A5EBD8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127-237A-4663-BE52-5EFAF96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B9AF-D98B-4B2E-B9F2-1589F73F84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186D-8F40-422F-9028-C88DACD3CA8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sl.about.com/od/englishlistening/" TargetMode="External"/><Relationship Id="rId2" Type="http://schemas.openxmlformats.org/officeDocument/2006/relationships/hyperlink" Target="http://www.esl-lab.com/" TargetMode="External"/><Relationship Id="rId3" Type="http://schemas.openxmlformats.org/officeDocument/2006/relationships/hyperlink" Target="http://esl.about.com/cs/listening/" TargetMode="External"/><Relationship Id="rId4" Type="http://schemas.openxmlformats.org/officeDocument/2006/relationships/hyperlink" Target="http://esl.about.com/cs/listening/" TargetMode="External"/><Relationship Id="rId5" Type="http://schemas.openxmlformats.org/officeDocument/2006/relationships/hyperlink" Target="http://esl.about.com/cs/listening/" TargetMode="External"/><Relationship Id="rId6" Type="http://schemas.openxmlformats.org/officeDocument/2006/relationships/hyperlink" Target="http://www.manythings.org/el/" TargetMode="External"/><Relationship Id="rId7" Type="http://schemas.openxmlformats.org/officeDocument/2006/relationships/hyperlink" Target="http://www.manythings.org/el/" TargetMode="External"/><Relationship Id="rId8" Type="http://schemas.openxmlformats.org/officeDocument/2006/relationships/hyperlink" Target="http://www.manythings.org/el/" TargetMode="External"/><Relationship Id="rId9" Type="http://schemas.openxmlformats.org/officeDocument/2006/relationships/hyperlink" Target="http://www.elllo.org/" TargetMode="External"/><Relationship Id="rId10" Type="http://schemas.openxmlformats.org/officeDocument/2006/relationships/hyperlink" Target="http://www.elllo.org/" TargetMode="External"/><Relationship Id="rId11" Type="http://schemas.openxmlformats.org/officeDocument/2006/relationships/hyperlink" Target="http://www.elllo.org/" TargetMode="External"/><Relationship Id="rId12" Type="http://schemas.openxmlformats.org/officeDocument/2006/relationships/hyperlink" Target="http://www.elllo.org/music/coffee/coffee.htm" TargetMode="External"/><Relationship Id="rId13" Type="http://schemas.openxmlformats.org/officeDocument/2006/relationships/hyperlink" Target="http://www.elllo.org/music/coffee/coffee.htm" TargetMode="External"/><Relationship Id="rId14" Type="http://schemas.openxmlformats.org/officeDocument/2006/relationships/hyperlink" Target="http://iteslj.org/links/ESL/Listening/" TargetMode="External"/><Relationship Id="rId15" Type="http://schemas.openxmlformats.org/officeDocument/2006/relationships/hyperlink" Target="http://www.lclark.edu/~krauss/toppicks/listening.html" TargetMode="External"/><Relationship Id="rId16" Type="http://schemas.openxmlformats.org/officeDocument/2006/relationships/hyperlink" Target="http://www.lclark.edu/~krauss/toppicks/listening.html" TargetMode="External"/><Relationship Id="rId17" Type="http://schemas.openxmlformats.org/officeDocument/2006/relationships/hyperlink" Target="http://esl.about.com/library/quiz/bllisteningquiz.htm" TargetMode="External"/><Relationship Id="rId18" Type="http://schemas.openxmlformats.org/officeDocument/2006/relationships/hyperlink" Target="http://international.ouc.bc.ca/pronunciation/" TargetMode="External"/><Relationship Id="rId19" Type="http://schemas.openxmlformats.org/officeDocument/2006/relationships/hyperlink" Target="http://international.ouc.bc.ca/pronunciation/" TargetMode="External"/><Relationship Id="rId20" Type="http://schemas.openxmlformats.org/officeDocument/2006/relationships/hyperlink" Target="http://international.ouc.bc.ca/pronunciation/" TargetMode="External"/><Relationship Id="rId2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istening Process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sten and take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n compare your notes with my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re you doing with your listening ski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to play the audio segment for students to listen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real life, it is not ‘replaye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ace-to-face conversation – chance to ask for clarification and re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y two or mor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5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 task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i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st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5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Live’ Listening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er reading a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ors / guest 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Listening – the role of the teacher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er – tell students exactly what their listening purpose is, give them clear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operator: try material before taking it into class; playback; stop and start the machine according to students’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back organiser: compare their answers in pairs and then ask for answers from the class in general or from pairs in particular; be sup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pter: have students listen again to notice a variety of language and spoken features; offer script di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lesson sequen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can occur at a number of points in a teaching sequenc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ing of point for activities which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stage of a ‘listening and acting out’ sequence where students role-play the situation they have heard on the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listening may be a prelude to a piece of writing which is the main focus of a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ing training is the central focus of a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lesson sequences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listening sequences involve a mixture of language skills, though one, in particular, is often the main focus of the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gist on first hearing before moving on to different task skil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 for specific information straight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nd of music – powerful, speaks to our emotion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 a film music and get students to say what kind of film they think it com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stories based on the mood of the music they 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: Ir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nd of music – powerful, speaks to our emotion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g lyric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students bring their own favourite songs to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lder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ongs you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gs appropriate in terms of topic and subject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5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Exampl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553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iewing a stranger: page 2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ry I’m late: page 2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phone messages: page 2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FO: page 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d a nice time, but… : page 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post office: page 2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onic: page 2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6230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Listening using the Interne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49240" y="2361960"/>
            <a:ext cx="7685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Listening Skills and Activities-Effective Listening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esl.about.com/od/englishlistenin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ndall’s ESL Cyber Listening Lab </a:t>
            </a: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esl-lab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ing Skill Practice 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esl.about.com/cs/listening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lish Listening Room 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www.manythings.org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/e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lish Language Listening Lab Online 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www.elllo.org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www.elllo.org/music/coffee/coffe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SL: Listening </a:t>
            </a:r>
            <a:r>
              <a:rPr b="0" lang="nb-NO" sz="20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http://iteslj.org/links/ESL/Listenin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L Independent Study Lab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http://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www.lclark.edu/~krauss/toppicks/listening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stening Quizzes </a:t>
            </a:r>
            <a:r>
              <a:rPr b="0" lang="nl-NL" sz="20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http://esl.about.com/library/quiz/bllisteningqui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Pronunciation / Listening 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http://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international.ouc.bc.ca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/pronunciati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of student listening skill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extensive and intensive listening material and procedures.</a:t>
            </a:r>
            <a:br>
              <a:rPr sz="46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to hear voices other than the teacher’s  enables students to acquire good speaking habits as a result of the spoken English they absorb, and helps to improve their pronun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listening can have a dramatic effect to a student’s language learning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ve listen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side the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stereos as they travel from one plac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 increases when students make their own choices about what they are going to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listening sources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 readers with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wn copies of course audio DVDs / iPod / 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o DVDs / iPod / tapes of authentic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stereos as they travel from one plac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 increases when students make their own choices about what they are going to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listening sourc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tensive listening to work effectively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on of appropriate material clearly marked for level, topic and gen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t like simplified readers in a perman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a record of which students have borrowed which tapes; Involve students in the tasks of record-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extensive listen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s perform a number of task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their responses to what they have heard in a personal 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in prepared report forms: list the topic, assess the level of difficulty, and summarise the contents of the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ing p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their information with 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listening: using taped material / material on audio CD/DV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students to hear a variety of different voices apart from just their own teache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of different characters, especially when real people are t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ety of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o material: portable and readily available, cheap, relatively in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listening: using taped material / material on audio CD/DV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big classrooms, poor acou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one has to listen at the same speed, a speed dictated by the tape, not by the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listening: using taped material / material on audio CD/DV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problem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audio source and machine quality before using them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of the playback machine – soun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 number of machines for students to listen at their own speed or languag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0:36:32Z</dcterms:created>
  <dc:creator>Sofocleous</dc:creator>
  <dc:description/>
  <dc:language>en-US</dc:language>
  <cp:lastModifiedBy>Student</cp:lastModifiedBy>
  <dcterms:modified xsi:type="dcterms:W3CDTF">2008-03-17T09:14:34Z</dcterms:modified>
  <cp:revision>3</cp:revision>
  <dc:subject/>
  <dc:title>Listening Processes</dc:title>
</cp:coreProperties>
</file>